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72B7-0C3A-40A0-AFA4-6BBCC4743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D1EB-9876-486A-A8D1-0A6E2026A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A73F-1E64-4C39-971B-9C7B296C8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F6B6-432F-46F1-88D7-C2AA053D3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F8AAB-D033-492F-87D5-CA0560F5F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233AA-42B2-48BF-9790-60A717AFB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82A21-EF4F-43B0-A488-FACF7D564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C0FC1-F88A-43FF-91A0-C19107C18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7443F-0049-443B-A743-95AED4BCF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3660E-1A21-43DA-91FA-E7C680EE2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23AA4-764A-488F-8324-A180E6D0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6CC2-ABDC-4B35-8BC4-D82B16CEF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DB512-6C53-4643-886D-D6749BF1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55CD2-B9DA-4A30-9576-41C19774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D1965-8ACA-4DAB-80F2-9FC1EF502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3E2B1-1FD7-4FD1-8626-F3FACE59B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FA3E6-B282-4B62-B35A-1B7CA5A0B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FA9E-7868-4AED-9736-7C7B1E5BF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A88B-1A20-4C27-A01C-43611F2A0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8083-0AAC-4850-81C3-3F8E275EC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5452-242C-4164-9ACA-8E812B352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19B4-D19B-4F3F-B25B-4463EF3D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347D-DF2A-4EEC-A47E-88211CCB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12B9-880F-464E-B701-DDA9501E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9E758-E0A8-4B1D-A94A-143919A953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9F98-28E1-439D-B920-E6ADBEE486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Go Tell The Good News</a:t>
            </a:r>
            <a:br>
              <a:rPr sz="5400"/>
            </a:b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Part 1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arter 11, Lesson 1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ts 15; Gal.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ges 84-9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ummary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Reason For The Circumcision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Reports During The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Resolution From This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rcumcision cannot be forced upon anyone for salv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were immediate moral issues that should concern Christia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he Conference in Jerusalem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ouble Arises From With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ewish Christians Began Teaching That Gentiles Must First Enter A Covenant With God By Circumci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tile Christians Were Challenged On The Issue of Their Salvation in Chr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Circumcision Essential To Salvatio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issue is the focus of the great discussion in Acts 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The Conference After The 1st Missionary Journey of Paul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143000" y="1538280"/>
            <a:ext cx="6629400" cy="53197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7905600" y="3733920"/>
            <a:ext cx="1238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D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8-49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828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ollow the Numb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Possible Chronology of Acts 15 And Galatians 2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eeting About The Issue of Circumci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ul and Barnabas attended together – (Acts 15:2; Gal. 2: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Were Accompanied By Others – (Acts 15:2; Gal. 2: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Traveled From Syria – (Acts 14:26-28; Gal. 1:2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Went To Jerusalem For This Meeting – (Acts 15:2-4; Gal. 2: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Possible Chronology of Acts 15 And Galatians 2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eeting About The Issue of Circumci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ul Faced Opposition From Jewish Christians At Jerusalem – (Acts 15:5; Gal. 2:3-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postles Met – (Acts 15:5-29; Gal. 2:6-1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rominent Part Was Taken By Peter – (Acts 15:7-11, 14; Gal. 2:7-9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mes Also Took Part – (Acts 15:12-21; Gal. 2:9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ul Reported on His Mission to Gentiles and defends it – (Acts 15:4, 12; Gal. 2: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ch Discussion Ensued – (Acts 15:6-7; Gal. 2:6, 7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Possible Chronology of Acts 15 And Galatians 2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eeting About The Issue of Circumci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postles Drew A Necessary Conclusion – (Acts 15:25-29; Gal. 2:7-1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ul and Barnabas Continued Their Work – (Acts 15:27-29; Gal. 2:7-9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Few Requirements Expounded For Gentile Converts – (Acts 15:28f; Gal. 2:1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ul and Barnabas Returned To Antioch – (Acts 15:30; Gal. 2:11-1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Possible Chronology of Acts 15 And Galatians 2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eeting About The Issue of Circumci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ul and Barnabas Have A Parting of the Ways – (Acts 15:39; Gal. 2:1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ummary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Reason For The Circumcision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igh The Judaizer’s Claim Against The Evidence of Confirmed Gospel and O.T. Prophe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Reports During The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ul and Barnabas’ work among Gentiles never revealed it as being necess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ter’s door-opening experience among the Gentiles did not require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mes’ look at predictive prophecy in Am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20:00:04Z</dcterms:created>
  <dc:creator>Gateway Client</dc:creator>
  <dc:description/>
  <dc:language>en-US</dc:language>
  <cp:lastModifiedBy>Frank D Vines</cp:lastModifiedBy>
  <dcterms:modified xsi:type="dcterms:W3CDTF">2007-03-01T00:32:22Z</dcterms:modified>
  <cp:revision>11</cp:revision>
  <dc:subject/>
  <dc:title>Go Tell The Good News Part 1</dc:title>
</cp:coreProperties>
</file>